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64788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6076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103464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64788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6076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380880" y="26640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5560" y="1371600"/>
            <a:ext cx="7975440" cy="0"/>
          </a:xfrm>
          <a:prstGeom prst="line">
            <a:avLst/>
          </a:prstGeom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00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25560" y="3429000"/>
            <a:ext cx="7975440" cy="0"/>
          </a:xfrm>
          <a:prstGeom prst="line">
            <a:avLst/>
          </a:prstGeom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808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NICAL TEACH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aching Characteristi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aching Behavio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aching Sty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rientation Toward Stud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25560" y="3429000"/>
            <a:ext cx="7975440" cy="0"/>
          </a:xfrm>
          <a:prstGeom prst="line">
            <a:avLst/>
          </a:prstGeom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8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3 Categories of Contingenci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einforcement Contingenc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creases the probability of a behavi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ward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havior will be repeat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unishment Contingenc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creases the probability of a behavi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using to inhibi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crease or not repeat behavi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xtinction Contingenc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en a responses met with no positive or negative properties other than the stimulus, then the behavior will likely be lo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.e.., loosing money in a vending machi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5560" y="3429000"/>
            <a:ext cx="7975440" cy="0"/>
          </a:xfrm>
          <a:prstGeom prst="line">
            <a:avLst/>
          </a:prstGeom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stimulus - response - consequence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sponse generated stimuli are the basis for the chains of behaviors that underlie psychomotor learning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25560" y="3429000"/>
            <a:ext cx="7975440" cy="0"/>
          </a:xfrm>
          <a:prstGeom prst="line">
            <a:avLst/>
          </a:prstGeom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stimulus - response - consequence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en responses are reinforced the probability of them occurring in the future is increase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Behaviors: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vailab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petent skil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spect for stud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formation for students on how to improve performa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ear communic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ategories of Effective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eaching Behavior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valuating student performa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intaining conditions for clinical learn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ideration for stud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nowledge of dentist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king to tea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pplication of knowledge of dentist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cern for teach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ssessing Learning Styles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lf directed or independ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tant dire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act-oriented - student has little difficulty in recalling inf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cept-oriented - student has little difficulty in problem solv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eaching Behaviors that: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sychologically enhance the role of the stud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chnically enhance the role of the instruc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5560" y="3429000"/>
            <a:ext cx="7975440" cy="0"/>
          </a:xfrm>
          <a:prstGeom prst="line">
            <a:avLst/>
          </a:prstGeom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NTINGENC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three part relationship between a stimuli, a response and a conseque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NDITIONING(learning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havior is any kind of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response; observabl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or unobservab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respons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is a reaction to a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stimulu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stimuli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are features of the total environ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consequenc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is a second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stimulu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refore learning is the process of strengthening the association of the response to given stimul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espondent Condition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975200" y="1676520"/>
            <a:ext cx="3787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utomatic response elicited by one stimu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vlov’s do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.e., feelings, emotions, autonomic nervous syste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1036800" y="1676520"/>
          <a:ext cx="3763800" cy="409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36800" y="1676520"/>
                    <a:ext cx="3763800" cy="409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perant Condition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1035000" y="2664000"/>
          <a:ext cx="3768840" cy="211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35000" y="2664000"/>
                    <a:ext cx="3768840" cy="211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975200" y="1676520"/>
            <a:ext cx="3787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pends on subsequent effects of consequen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ungry animal presses lever and receives a food pellet; mo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5-28T16:26:58Z</dcterms:created>
  <dc:creator>Authorized User</dc:creator>
  <dc:description/>
  <dc:language>en-US</dc:language>
  <cp:lastModifiedBy>dbauman</cp:lastModifiedBy>
  <cp:lastPrinted>31135-12-07T18:17:57Z</cp:lastPrinted>
  <dcterms:modified xsi:type="dcterms:W3CDTF">1999-08-30T15:31:17Z</dcterms:modified>
  <cp:revision>1</cp:revision>
  <dc:subject/>
  <dc:title>CLINICAL TEACHING</dc:title>
</cp:coreProperties>
</file>